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A5C2-BE03-4A04-849B-B0F823BDA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46F7-7E06-4F2A-BD9B-319EB7E8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6811-C91F-462B-AD99-80188577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40D6-1851-4F2E-AA75-B63AC36EA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C814-27EF-46DD-A156-AE39BEF7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ABF3-DE89-4432-9EC0-306CEAE0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CDE3-A576-4D6A-B844-27941B7C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7BAF-D81C-4221-88F2-BF500F5B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7192-CF41-416D-B20E-AB5EBD26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97EF-A919-414B-A181-0B7E0D6C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8F16-A73E-442D-947A-EC7C59A1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E0A2-757E-44BB-A7F9-BCA07FE4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0530-C258-4161-8BD0-9A252E49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E1FD-4F31-4C88-91C8-6B6982EE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F66A-380B-42D2-B553-24511C0E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DFEC-D34E-4509-B916-B5A9251B0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7F93-89DE-4446-94C7-C04EB126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8F22-2C67-4728-AF33-083E61B3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8DAD-751E-4D54-B550-B2AE10B0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748F-5D8C-4E33-8B73-0AA54CA3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9BF3-7E06-46A0-A549-9B7264D9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3890-D7BB-4B4C-9C7C-2C51933B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79AB-9725-4158-BC02-F7D1C4CF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BB17-3287-41EA-94BA-A74A89BA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2C43-1EC5-4909-A69C-EA32D0AED2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C874-E732-4484-8833-2B408C77A1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900000" y="1341360"/>
            <a:ext cx="691200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6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уки</a:t>
            </a:r>
            <a:endParaRPr b="1" lang="en-US" sz="4400" spc="1" strike="noStrike">
              <a:ln w="1260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бразы прекрасной...</a:t>
            </a:r>
            <a:endParaRPr b="1" lang="en-US" sz="4400" spc="1" strike="noStrike">
              <a:ln w="1260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7c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620120" cy="571500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755640" y="18900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Х И М И 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8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e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20120" cy="5715000"/>
          </a:xfrm>
          <a:prstGeom prst="rect">
            <a:avLst/>
          </a:prstGeom>
          <a:ln w="38160">
            <a:solidFill>
              <a:srgbClr val="00002e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755640" y="18900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Ф И З И К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620120" cy="5715000"/>
          </a:xfrm>
          <a:prstGeom prst="rect">
            <a:avLst/>
          </a:prstGeom>
          <a:ln w="38160">
            <a:solidFill>
              <a:srgbClr val="111111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611280" y="6165720"/>
            <a:ext cx="79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18900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М А Т Е М А Т И К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34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620120" cy="5715000"/>
          </a:xfrm>
          <a:prstGeom prst="rect">
            <a:avLst/>
          </a:prstGeom>
          <a:ln w="38160">
            <a:solidFill>
              <a:srgbClr val="6b351f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755640" y="18900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И Н Ф О Р М А Т И К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2a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620120" cy="5715000"/>
          </a:xfrm>
          <a:prstGeom prst="rect">
            <a:avLst/>
          </a:prstGeom>
          <a:ln w="38160">
            <a:solidFill>
              <a:srgbClr val="d11b0d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755640" y="18900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Л И Т Е Р А Т У Р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71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20120" cy="5715000"/>
          </a:xfrm>
          <a:prstGeom prst="rect">
            <a:avLst/>
          </a:prstGeom>
          <a:ln w="38160">
            <a:solidFill>
              <a:srgbClr val="841b06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755640" y="18900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М У З Ы К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27640" y="476280"/>
            <a:ext cx="403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боту выполнила ученица 11б класса          МОУ СОШ с УИОП №1 г. Омутнинска Кировской области 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Агафонова Анн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4603" t="9070" r="9129" b="0"/>
          <a:stretch/>
        </p:blipFill>
        <p:spPr>
          <a:xfrm>
            <a:off x="731880" y="404640"/>
            <a:ext cx="2976480" cy="3168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429160" y="3284640"/>
            <a:ext cx="2814840" cy="3168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8360" y="4076640"/>
            <a:ext cx="403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д руководством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чителя информатики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Запольских Ирины Александровны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3:29:36Z</dcterms:created>
  <dc:creator>Ученик</dc:creator>
  <dc:description/>
  <dc:language>en-US</dc:language>
  <cp:lastModifiedBy>Пользователь</cp:lastModifiedBy>
  <dcterms:modified xsi:type="dcterms:W3CDTF">2008-01-28T14:29:12Z</dcterms:modified>
  <cp:revision>6</cp:revision>
  <dc:subject/>
  <dc:title>Слайд 1</dc:title>
</cp:coreProperties>
</file>